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April 15,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93680" y="1127160"/>
            <a:ext cx="7808760" cy="4971240"/>
            <a:chOff x="1093680" y="1127160"/>
            <a:chExt cx="7808760" cy="4971240"/>
          </a:xfrm>
        </p:grpSpPr>
        <p:sp>
          <p:nvSpPr>
            <p:cNvPr id="89" name=""/>
            <p:cNvSpPr/>
            <p:nvPr/>
          </p:nvSpPr>
          <p:spPr>
            <a:xfrm>
              <a:off x="1093680" y="1127160"/>
              <a:ext cx="7808760" cy="497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51640" y="1127160"/>
              <a:ext cx="7727400" cy="49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31840" y="1150920"/>
            <a:ext cx="7650360" cy="47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: 18.03.05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18.03.04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:   15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ilestones are only SW related. S25 has been decl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Lack of SW resources to assign and fix bugs and to implement CRs (including operator CRs) in time for the DS SW-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otential delay of the PoC and I-mode implementation in CX70 and early X75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ew AAC/MP3-chip with integrated MMC-interface for SGL platform und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ue to high unused stock of key components from R65 generation (SGL, Mozart), careful material management and component allocation to the new SGL products i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nlimited release for SGL with new lead-free package has be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New video chip from Epson 758 in discussion to replace Epson 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ust CR “Background audio playing” can not be integrated in Phoenix D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stimated number of critical bugs can only be fixed if bug fixing rate is increased – resource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98960"/>
            <a:ext cx="3762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57640"/>
            <a:ext cx="195120" cy="20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522600"/>
            <a:ext cx="195120" cy="20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8936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P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8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92400" y="1322280"/>
            <a:ext cx="705960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12.0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0.12.04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.03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20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25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.02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5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 aligned with Phase II product decl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technical issu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7320" y="6477120"/>
            <a:ext cx="36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Claus Dalmose COM MD PD PGG AAL /  11.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971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SimSun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SimSun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08000" y="1063800"/>
            <a:ext cx="7719840" cy="5091480"/>
            <a:chOff x="1008000" y="1063800"/>
            <a:chExt cx="7719840" cy="5091480"/>
          </a:xfrm>
        </p:grpSpPr>
        <p:sp>
          <p:nvSpPr>
            <p:cNvPr id="110" name=""/>
            <p:cNvSpPr/>
            <p:nvPr/>
          </p:nvSpPr>
          <p:spPr>
            <a:xfrm>
              <a:off x="1008000" y="1063800"/>
              <a:ext cx="7719840" cy="509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5240" y="1063800"/>
              <a:ext cx="763956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14480" y="1170000"/>
            <a:ext cx="75675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ilestones Phoenix / 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09.05.05 / 2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 SW Freeze   19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SimSun"/>
              </a:rPr>
              <a:t>SW bug-fixing rate not high enough to reach S3-maturity in time. Resources for approval not ensure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=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W resource situation escalated in PSR. – Resource enhancement still under discussion – fix needed urg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2-SW does not fulfill LCM/Production requirements, -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without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this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w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lock S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irius side keys currently not testable, -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solution for S25 available, improvement for S3 nee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isalignment of Phoenix-Joystick =&gt; Countermeasures under Evaluation, looks promi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Lead Free Soldering Process seems not to be stabl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=&gt; SGold and Mozart improved in drop test significant. Results need to be check in B2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Phoenix rear cover: conflict between requirements of mechanical quality and assembly in production, must be solved before ramp up start =&gt; Task force set up in Shangh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" y="347328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840" y="374508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3933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117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20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23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26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29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040" y="35528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13160" y="1212840"/>
            <a:ext cx="4214880" cy="183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 still feasible and volumes in June endangered due to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delayed assignment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SimSun"/>
              </a:rPr>
              <a:t>missing SW 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hoenix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nd Siri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declared S25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41120" y="368856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2480" y="3528720"/>
            <a:ext cx="12888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02840" y="37414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02840" y="3954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92640" y="2442960"/>
            <a:ext cx="110520" cy="115560"/>
            <a:chOff x="3392640" y="2442960"/>
            <a:chExt cx="110520" cy="115560"/>
          </a:xfrm>
        </p:grpSpPr>
        <p:sp>
          <p:nvSpPr>
            <p:cNvPr id="139" name=""/>
            <p:cNvSpPr/>
            <p:nvPr/>
          </p:nvSpPr>
          <p:spPr>
            <a:xfrm>
              <a:off x="3392640" y="25182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39800" y="2442960"/>
              <a:ext cx="63360" cy="1155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27360" y="1430280"/>
            <a:ext cx="111240" cy="115920"/>
            <a:chOff x="3627360" y="1430280"/>
            <a:chExt cx="111240" cy="115920"/>
          </a:xfrm>
        </p:grpSpPr>
        <p:sp>
          <p:nvSpPr>
            <p:cNvPr id="142" name=""/>
            <p:cNvSpPr/>
            <p:nvPr/>
          </p:nvSpPr>
          <p:spPr>
            <a:xfrm>
              <a:off x="3627360" y="15051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74880" y="14302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13320" y="1635120"/>
            <a:ext cx="110520" cy="115920"/>
            <a:chOff x="3613320" y="1635120"/>
            <a:chExt cx="110520" cy="115920"/>
          </a:xfrm>
        </p:grpSpPr>
        <p:sp>
          <p:nvSpPr>
            <p:cNvPr id="145" name=""/>
            <p:cNvSpPr/>
            <p:nvPr/>
          </p:nvSpPr>
          <p:spPr>
            <a:xfrm>
              <a:off x="3613320" y="17100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60480" y="16351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13320" y="1844640"/>
            <a:ext cx="110520" cy="115920"/>
            <a:chOff x="3613320" y="1844640"/>
            <a:chExt cx="110520" cy="115920"/>
          </a:xfrm>
        </p:grpSpPr>
        <p:sp>
          <p:nvSpPr>
            <p:cNvPr id="148" name=""/>
            <p:cNvSpPr/>
            <p:nvPr/>
          </p:nvSpPr>
          <p:spPr>
            <a:xfrm>
              <a:off x="3613320" y="191952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60480" y="184464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13320" y="2035080"/>
            <a:ext cx="110520" cy="115920"/>
            <a:chOff x="3613320" y="2035080"/>
            <a:chExt cx="110520" cy="115920"/>
          </a:xfrm>
        </p:grpSpPr>
        <p:sp>
          <p:nvSpPr>
            <p:cNvPr id="151" name=""/>
            <p:cNvSpPr/>
            <p:nvPr/>
          </p:nvSpPr>
          <p:spPr>
            <a:xfrm>
              <a:off x="3613320" y="210996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60480" y="203508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03600" y="2235240"/>
            <a:ext cx="111240" cy="115920"/>
            <a:chOff x="3603600" y="2235240"/>
            <a:chExt cx="111240" cy="115920"/>
          </a:xfrm>
        </p:grpSpPr>
        <p:sp>
          <p:nvSpPr>
            <p:cNvPr id="154" name=""/>
            <p:cNvSpPr/>
            <p:nvPr/>
          </p:nvSpPr>
          <p:spPr>
            <a:xfrm>
              <a:off x="3603600" y="23101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51120" y="22352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587760" y="2438280"/>
            <a:ext cx="111240" cy="115920"/>
            <a:chOff x="3587760" y="2438280"/>
            <a:chExt cx="111240" cy="115920"/>
          </a:xfrm>
        </p:grpSpPr>
        <p:sp>
          <p:nvSpPr>
            <p:cNvPr id="157" name=""/>
            <p:cNvSpPr/>
            <p:nvPr/>
          </p:nvSpPr>
          <p:spPr>
            <a:xfrm>
              <a:off x="3587760" y="25131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635280" y="24382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4867200" y="1657440"/>
            <a:ext cx="771480" cy="9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30320" y="1197000"/>
            <a:ext cx="7287840" cy="5294520"/>
            <a:chOff x="1030320" y="1197000"/>
            <a:chExt cx="7287840" cy="5294520"/>
          </a:xfrm>
        </p:grpSpPr>
        <p:sp>
          <p:nvSpPr>
            <p:cNvPr id="162" name=""/>
            <p:cNvSpPr/>
            <p:nvPr/>
          </p:nvSpPr>
          <p:spPr>
            <a:xfrm>
              <a:off x="1030320" y="1197000"/>
              <a:ext cx="7287840" cy="529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4320" y="1197000"/>
              <a:ext cx="7211880" cy="52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58760" y="1320840"/>
            <a:ext cx="726912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:   16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31.03.05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:   08.08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e test cycle time is quite high (The rough estimation from prototype run i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SimSun"/>
              </a:rPr>
              <a:t>5to 7 seco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more than targ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SD failure when camera is in view finder mode (local SW available and need verify with latest H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YD is the single supplier for major components LCD and FPC – quality risk in mas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ue to secrete and the other reason we need one additional PCB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ESD failure of display (during viewfinder mode) – temporary SW available need to verify with the latest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2 SW will be delay some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art Call” failure not completely s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atic-load test failed, the improvement is on 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OT will be 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rototyp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1+.2 is ongoing and B2 will be delayed some days( This will very likely result in some delay of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e test cycle time is quite high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SimSun"/>
              </a:rPr>
              <a:t>5to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seconds more than target based on the rough esti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e fixture for CT is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1920" y="320832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3267000"/>
            <a:ext cx="19548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360" y="3532320"/>
            <a:ext cx="195120" cy="207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4360" y="379872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1189080"/>
            <a:ext cx="7400880" cy="488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High/Low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+ Test &amp; Assembly running with reduced customer test coverage; 2-3 days delay of "high volume" device delivery due to technical &amp; logistic problems in prototype 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tronics VGA camera supplier announced delay for B2 sample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B2 timeline confirmed, but NO buffer available anymore (weekly update by Flextronic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 &gt;&gt; bug fixing rate may become not sufficient (to few resources, not enough experience in SW BEJ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additional budget &amp; resource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ing of ClearQuest is not properly (no resource/experience to assign new bugs to components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additional resources transferred to BEJ; improvement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&gt;&gt; Switch to silver-copper EMI painting decided; spec conformity of JIGs/metallization area to be confirmed &gt;&gt;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amples in CW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S display broken during droptests; counter measures does not fix the problems (although Minos, Phönis, Sirius are ok now)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samples on 26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case breaks during drop tes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&gt;&gt; mould flow analysis checked, counter measures initiated &gt;&gt; samples in CW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20680" y="1220760"/>
            <a:ext cx="7326000" cy="4888440"/>
            <a:chOff x="1120680" y="1220760"/>
            <a:chExt cx="7326000" cy="4888440"/>
          </a:xfrm>
        </p:grpSpPr>
        <p:sp>
          <p:nvSpPr>
            <p:cNvPr id="179" name=""/>
            <p:cNvSpPr/>
            <p:nvPr/>
          </p:nvSpPr>
          <p:spPr>
            <a:xfrm>
              <a:off x="1120680" y="1220760"/>
              <a:ext cx="7326000" cy="488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5040" y="1220760"/>
              <a:ext cx="7249680" cy="48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81160" y="1341360"/>
            <a:ext cx="72691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: 04.03.05 -&gt;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23.03.05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:   22.07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:  08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: 24.03.05 -&gt;  14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: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:   05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: 21.04.05 -&gt; 29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:   01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:   02.02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 and S0 shifted due to change to 1.3MPix camera / TFT-display and additional necessary surface design modifications. M0 Declaration is also blocked by SAR value risk – red Q-Gate 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 Declaration is currently blocked by introduction of new Epson 758 and SAR valu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DS will be delayed by 5 weeks if Epson 758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FT display and camera schedule are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Replacement of Epson 732 by 758 chip requires additional qualification time and effort; if first samples of Epson 758 are delayed, complete project will be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ue to cost reasons it is necessary to replace the Epson 732 video chip by the Epson 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hanges w.r.t.  Adonis: Liftpart PCB (Epson 758), display, camera, hinge flex, antenna, housing,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upport of Epson 758 based drivers for MPix-Camera and the TFT-display under cla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30400" y="1319040"/>
            <a:ext cx="7326000" cy="5126760"/>
            <a:chOff x="1130400" y="1319040"/>
            <a:chExt cx="7326000" cy="5126760"/>
          </a:xfrm>
        </p:grpSpPr>
        <p:sp>
          <p:nvSpPr>
            <p:cNvPr id="188" name=""/>
            <p:cNvSpPr/>
            <p:nvPr/>
          </p:nvSpPr>
          <p:spPr>
            <a:xfrm>
              <a:off x="1130400" y="1319040"/>
              <a:ext cx="7326000" cy="512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84760" y="1319040"/>
              <a:ext cx="7249680" cy="51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158840" y="1468440"/>
            <a:ext cx="726912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: 01.04.05 =&gt; 12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:   26.09.05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10.10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S: 14.02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16.02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: 26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: 24.11.05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05.12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:  28.02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01.03.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: 03.06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:   10.01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11.01.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:  28.03.06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29.03.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light shift of DS in official M0 planning by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working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 not reached in plan, only one confirmation of LCM1 Global Line Manager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usiness case is still negativ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-2.3 €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per de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1 TO dependent on SACC-X sample availability =&gt; if delayed, complete project i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pdated AAC-Chip (SACC-X) with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ew BB shielding to be developed as 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=&gt; therefore, G85 vibra need not be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High one-time effort  for support of Nano-I/O, AAC chip with SD interface, display IF not via video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Design/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90% surface ID re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Drawing of new BB shielding required fo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213360" y="1050480"/>
            <a:ext cx="508680" cy="5654160"/>
            <a:chOff x="3213360" y="1050480"/>
            <a:chExt cx="508680" cy="5654160"/>
          </a:xfrm>
        </p:grpSpPr>
        <p:sp>
          <p:nvSpPr>
            <p:cNvPr id="196" name=""/>
            <p:cNvSpPr/>
            <p:nvPr/>
          </p:nvSpPr>
          <p:spPr>
            <a:xfrm flipV="1">
              <a:off x="3477960" y="1050480"/>
              <a:ext cx="0" cy="547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13360" y="6480000"/>
              <a:ext cx="508680" cy="22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581360"/>
            <a:ext cx="576000" cy="503280"/>
          </a:xfrm>
          <a:custGeom>
            <a:avLst/>
            <a:gdLst>
              <a:gd name="textAreaLeft" fmla="*/ 0 w 576000"/>
              <a:gd name="textAreaRight" fmla="*/ 576000 w 57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4581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623557"/>
                <a:lnTo>
                  <a:pt x="17799" y="19026"/>
                </a:lnTo>
                <a:arcTo wR="10800" hR="10800" stAng="2976443" swAng="186235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967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5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6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4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5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33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1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818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2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60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2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1056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0108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980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7744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64720" y="1449360"/>
            <a:ext cx="0" cy="5040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67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25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16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6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4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5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33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1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18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72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6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60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2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056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980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7744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964720" y="126828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839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8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01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12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5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2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426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53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27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7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898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11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20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2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37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8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6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7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4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960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228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27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03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128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640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880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152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24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64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2560" y="1174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8900000">
            <a:off x="-52560" y="1628280"/>
            <a:ext cx="88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8900000">
            <a:off x="36360" y="2247480"/>
            <a:ext cx="1151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ype Approval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&amp;TTE, GC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CETE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8900000">
            <a:off x="-360" y="4126680"/>
            <a:ext cx="872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8900000">
            <a:off x="9720" y="4852800"/>
            <a:ext cx="73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8900000">
            <a:off x="169560" y="5527440"/>
            <a:ext cx="78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8900000">
            <a:off x="13320" y="3331800"/>
            <a:ext cx="787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080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M1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1.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08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364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600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4836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01080" y="105264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148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3232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6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31240" y="1074600"/>
            <a:ext cx="1112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636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1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4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9120" y="1557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5840" y="1510920"/>
            <a:ext cx="42840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1.0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418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386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25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20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1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3.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5968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5640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3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08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5164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247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P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5.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888400" y="155736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5120" y="1510920"/>
            <a:ext cx="428760" cy="2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S</a:t>
            </a:r>
            <a:br>
              <a:rPr sz="1000"/>
            </a:br>
            <a:r>
              <a:rPr b="1" i="1" lang="en-US" sz="1000" spc="-1" strike="noStrike">
                <a:solidFill>
                  <a:srgbClr val="cc3300"/>
                </a:solidFill>
                <a:latin typeface="Arial"/>
              </a:rPr>
              <a:t>19.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05360" y="2278080"/>
            <a:ext cx="2583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R&amp;TTE, GCF, F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Acoustic / SAR&amp;EMC&amp;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67280" y="2954160"/>
            <a:ext cx="57600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Golden 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67280" y="2278080"/>
            <a:ext cx="172872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ternal Pr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80000" y="2666880"/>
            <a:ext cx="57600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ilver</a:t>
            </a:r>
            <a:br>
              <a:rPr sz="1000"/>
            </a:b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3351240"/>
            <a:ext cx="172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2-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0" y="3338640"/>
            <a:ext cx="288720" cy="28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12000" y="3338640"/>
            <a:ext cx="122400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amp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09080" y="3127320"/>
            <a:ext cx="225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3363840"/>
            <a:ext cx="115236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+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357720"/>
            <a:ext cx="12970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B1 R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1156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1+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254556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1156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7.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8000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36920" y="3678120"/>
            <a:ext cx="604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2</a:t>
            </a:r>
            <a:br>
              <a:rPr sz="1000"/>
            </a:b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Tap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571280" y="339408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36920" y="3222720"/>
            <a:ext cx="604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04.0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95360" y="421812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8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169488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421812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Fast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47360" y="393300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03400" y="4226040"/>
            <a:ext cx="876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1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133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88000" y="4226040"/>
            <a:ext cx="876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2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14908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15240" y="4202280"/>
            <a:ext cx="1226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3.Hard Tool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Parts (100%)</a:t>
            </a:r>
            <a:br>
              <a:rPr sz="1000"/>
            </a:b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„cosmetic only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7450920" y="3940920"/>
            <a:ext cx="150840" cy="1796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643280" y="26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8294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098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B1+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69964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1400" y="5121360"/>
            <a:ext cx="733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tart z-IDB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3841920" y="4932360"/>
            <a:ext cx="15048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05120" y="4724280"/>
            <a:ext cx="7336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25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399492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6728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25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0876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S3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985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32360" y="4906800"/>
            <a:ext cx="1440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72360" y="4906800"/>
            <a:ext cx="865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S3 s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37440" y="4906800"/>
            <a:ext cx="71928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S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55040" y="4724280"/>
            <a:ext cx="733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cc3300"/>
                </a:solidFill>
                <a:latin typeface="Arial"/>
              </a:rPr>
              <a:t>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7670160" y="4535640"/>
            <a:ext cx="150840" cy="17928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6127920"/>
            <a:ext cx="11523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1st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max. 15 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356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6127920"/>
            <a:ext cx="1025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3r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87708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515772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85400" y="508464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Weekly SW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z-ID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5080" y="515772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526600" y="51721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72360" y="4746600"/>
            <a:ext cx="9874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5589720"/>
            <a:ext cx="86508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est P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06920" y="5589720"/>
            <a:ext cx="1440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s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46920" y="5589720"/>
            <a:ext cx="11541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Delta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558972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3000" y="6195960"/>
            <a:ext cx="11858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2nd VF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016840" y="5936400"/>
            <a:ext cx="150840" cy="179640"/>
          </a:xfrm>
          <a:prstGeom prst="flowChartExtra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15160" y="6195960"/>
            <a:ext cx="757440" cy="18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VF-DS-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72280" y="1844640"/>
            <a:ext cx="1079640" cy="21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S4/M3 </a:t>
            </a:r>
            <a:r>
              <a:rPr b="0" i="1" lang="en-US" sz="1000" spc="-1" strike="noStrike">
                <a:solidFill>
                  <a:srgbClr val="cc3300"/>
                </a:solidFill>
                <a:latin typeface="Arial"/>
              </a:rPr>
              <a:t>30.0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080" y="4405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1560" y="1447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43000" y="30114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04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03520" y="3313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03520" y="3843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9040" y="44370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9248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27160" y="14684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76640" y="3851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Wingdings 2"/>
                <a:ea typeface="Wingdings 2"/>
              </a:rPr>
              <a:t>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4-18T06:26:20Z</dcterms:modified>
  <cp:revision>735</cp:revision>
  <dc:subject/>
  <dc:title>PowerPoint Presentation</dc:title>
</cp:coreProperties>
</file>